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4CD7-285B-4AC3-B7E8-C791258FC9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BFAF-9711-4C0E-AC7A-727BA12990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атт (1736-18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98BD-9F8A-411A-8151-A77BC8512D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развить мощность 1 Вт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 груз массой 100 г на высоту 1 м    за    1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97B4-3874-4F2E-928F-678492F534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мощности, 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55AF-A288-4B94-B55F-4810A23DDE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4900-4122-44D9-A285-6DF29C4832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9071-4CEE-4867-A658-8D01D2A1EF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7C25-50FB-431A-9078-2E4F094A5B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2F17-3D14-47B0-9623-745CA57196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FC99-CB8A-4EC7-9A39-9D04D27B19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. № 3.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ите мощность штангиста, поднимающего штангу массой 250 кг на высоту 2 м за 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609D-C97A-4127-9237-F93996BA71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а №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м/ч  1м/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A=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кН        12000Н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S=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= 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=12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м/с=12000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28B7-1941-409B-8476-537ACE00D8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. 28 (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?              А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500кг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 м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Н/кг · 2500кг =25000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А=2500Н· 12м=300000Дж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0109-6EF7-442F-8245-C659BEFC17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приро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р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м мощность смер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подъему - А=29400000Дж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струи воздух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490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я часть смерча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14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иаметр всей колоны смерча 200м, 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=314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24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Мощность всей колоны 490 МВт. Сравним с мощностью техники, созданной рукам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0B62-324E-4E82-9343-63CDA0916F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сегодня нового узнали на урок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у мы науч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лось ваше настро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6637-C723-4CFC-9588-AAF83E500F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54.  Упр. 29 (3,6),   задание 18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тор: Дмитрюк Т.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итнико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BD40-BF41-4D9F-8C9E-EE898A3EFA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. 28 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?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F S          S=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т   120000кг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0 см   1,2м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0000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              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0Дж=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EE0C-4C55-46AF-8929-3810331F61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CC4F-C33F-4E83-BAB6-1F36F6CA92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нятие мощ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мощ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решать задачи на применение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25BD-A9E1-4931-A9BD-8E2D61D1F7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же лифт делает её быстрее все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062C-9526-455E-ABDF-E2342F884B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 быстроту выполнения работы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5BC6-9CCF-4A26-B999-DD6789B057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равна  отношению работы ко времени, за которое она соверш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BA70-ED73-4C0C-9440-AE2C46756E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Вт - мощность, при которой в 1 с совершается работа в 1 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1A73-D092-4CC1-9C34-A818D6FACF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4F0-ABA1-438C-B820-73AFF18D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E7D-D94B-48EC-8F2A-30658FAF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73C-C26A-41C6-A7AA-1850D4BB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FD6-E6B1-4CB1-8E12-42CF87BD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1FE7-F668-4C40-BABF-75235AAB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055B-B647-4051-8659-6C9B13BC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B9BA-DABE-4F01-BFA7-AF821C2A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4CD7-1572-4FD4-BEC8-53EB19F5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D94B-7A04-4BA0-AF9A-9727E2F5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623D-5CC5-4691-97D5-303D7801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DC8D-1DCC-439B-A3C7-9958800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A8C-37BC-4036-BC95-4D4C4B22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6218-0DCE-4DC6-B519-DCFFF5D9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4055-3F4B-4B93-B9B3-ABC9B91A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4D22-263D-4476-9979-1BC3CD59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1A3E-9055-46CA-B018-6B4AB63A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DEAA-9FD1-4A08-8941-EBA35EC2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CD8-FDFC-46D1-878D-300B6970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36A-53CA-4C84-9196-935073ED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0AA-D97F-42CA-AB66-3570D04C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4DB-82EC-403B-AB00-D10D75C8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DC3-1FFE-404F-A6E7-369A0FBE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A65-BBE7-484A-997D-6C6936B5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39F-A779-416C-B5D8-A3A60065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831C-5ADC-4861-8A56-CA332BF3A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8E70-F41D-4078-9B1A-9D68F5C116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0"/>
          <p:cNvSpPr txBox="1"/>
          <p:nvPr/>
        </p:nvSpPr>
        <p:spPr>
          <a:xfrm>
            <a:off x="900000" y="1268280"/>
            <a:ext cx="7315200" cy="423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жеймс Уатт (1736-181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4643280" y="1628640"/>
            <a:ext cx="403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45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826920" y="1483920"/>
            <a:ext cx="7490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тите развить мощность 1 Вт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нимите  груз массой 100 г на высоту 1 м    за    1 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900000" y="2133720"/>
            <a:ext cx="741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начение мощности, В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ческого серд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мощность челов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– 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бегая по лестни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иная си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5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ь совершает прыжок высота 2 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Д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532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0" y="2924280"/>
            <a:ext cx="31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132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0" y="3141720"/>
            <a:ext cx="374508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= 3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,5 ∙10 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443640" y="263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7380360" y="29955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745164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523280" y="29242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51640" y="4076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203640" y="407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5580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516720" y="4365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694836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6443640" y="37162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5 10 </a:t>
            </a:r>
            <a:r>
              <a:rPr b="0" lang="ru-RU" sz="2800" spc="-1" strike="noStrike" baseline="22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6659640" y="4365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8532720" y="4076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6012000" y="5300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5 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796000" y="5229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. № 3.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ределите мощность штангиста, поднимающего штангу массой 250 кг на высоту 2 м за 4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шение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395280" y="2781360"/>
            <a:ext cx="24480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843280" y="1989000"/>
            <a:ext cx="1440" cy="453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900000" y="20620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 -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50920" y="3141720"/>
            <a:ext cx="259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h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3132000" y="2276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2916360" y="256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3851280" y="2854440"/>
            <a:ext cx="504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924360" y="2349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3851280" y="22780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924360" y="278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427640" y="2565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 flipV="1" rot="10836600">
            <a:off x="2916000" y="3430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2843280" y="4221000"/>
            <a:ext cx="17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9"/>
          <p:cNvSpPr/>
          <p:nvPr/>
        </p:nvSpPr>
        <p:spPr>
          <a:xfrm>
            <a:off x="2843280" y="4005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m 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1692360" y="5230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1692360" y="5662440"/>
            <a:ext cx="3585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169236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4"/>
          <p:cNvSpPr/>
          <p:nvPr/>
        </p:nvSpPr>
        <p:spPr>
          <a:xfrm>
            <a:off x="493236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5003640" y="4726080"/>
            <a:ext cx="360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6"/>
          <p:cNvSpPr/>
          <p:nvPr/>
        </p:nvSpPr>
        <p:spPr>
          <a:xfrm>
            <a:off x="4932360" y="4654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7"/>
          <p:cNvSpPr/>
          <p:nvPr/>
        </p:nvSpPr>
        <p:spPr>
          <a:xfrm>
            <a:off x="5364000" y="45100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 500 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8"/>
          <p:cNvSpPr/>
          <p:nvPr/>
        </p:nvSpPr>
        <p:spPr>
          <a:xfrm>
            <a:off x="3003480" y="5291280"/>
            <a:ext cx="38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9"/>
          <p:cNvSpPr/>
          <p:nvPr/>
        </p:nvSpPr>
        <p:spPr>
          <a:xfrm>
            <a:off x="2987640" y="53020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= 2500 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м =5000 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0"/>
          <p:cNvSpPr/>
          <p:nvPr/>
        </p:nvSpPr>
        <p:spPr>
          <a:xfrm>
            <a:off x="3132000" y="602136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2"/>
          <p:cNvSpPr/>
          <p:nvPr/>
        </p:nvSpPr>
        <p:spPr>
          <a:xfrm>
            <a:off x="3924360" y="56754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406728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74"/>
          <p:cNvSpPr/>
          <p:nvPr/>
        </p:nvSpPr>
        <p:spPr>
          <a:xfrm>
            <a:off x="4067280" y="63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4427640" y="630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5724360" y="602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6156360" y="6021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50 В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дача №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м/ч  1м/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A=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кН        12000Н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S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= 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=1200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м/с=12000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2843280" y="321300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611280" y="3716280"/>
            <a:ext cx="22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572000" y="3284640"/>
            <a:ext cx="0" cy="20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. 28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- ?              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2500кг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 м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0Н/кг · 2500кг =25000Н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А=2500Н· 12м=300000Дж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539640" y="2133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700360" y="1628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природных явл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рч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м мощность смер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по подъему - А=29400000Дж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ость струи воздух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49000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я часть смерча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314 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иаметр всей колоны смерча 200м, 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=314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24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Мощность всей колоны 490 МВт. Сравним с мощностью техники, созданной рукам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мы сегодня нового узнали на уро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у мы научилис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изменилось ваше настро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54.  Упр. 29 (3,6),   задание 18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втор: Дмитрюк Т.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КОУ «Ситниковская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пр. 28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?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F S          S=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т   120000кг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0 см   1,2м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000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              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40000Дж=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2556000" y="1844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356000" y="184464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539640" y="220500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900000" y="1268280"/>
            <a:ext cx="734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на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 понятие мощ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ицы измерения мощ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ме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решать задачи на применение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же лифт делает её быстрее все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532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Мощнос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характеризует  быстроту выполнения работы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равна  отношению работы ко времени, за которое она соверш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1640" y="2421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71640" y="2492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34800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4067280" y="285264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28472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356000" y="285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187280" y="378936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835280" y="3860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627280" y="422100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771640" y="3500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2843280" y="41497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500720" y="393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5076720" y="4292640"/>
            <a:ext cx="35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5580000" y="4005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572000" y="450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5651640" y="458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64328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5148360" y="5445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5651640" y="51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111600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1116000" y="357336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1116000" y="494172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>
            <a:off x="363528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41"/>
          <p:cNvSpPr/>
          <p:nvPr/>
        </p:nvSpPr>
        <p:spPr>
          <a:xfrm>
            <a:off x="2340000" y="50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125892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1763640" y="5805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2340000" y="57340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 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45"/>
          <p:cNvSpPr/>
          <p:nvPr/>
        </p:nvSpPr>
        <p:spPr>
          <a:xfrm>
            <a:off x="1116000" y="558972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6"/>
          <p:cNvSpPr/>
          <p:nvPr/>
        </p:nvSpPr>
        <p:spPr>
          <a:xfrm>
            <a:off x="1116000" y="558972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7"/>
          <p:cNvSpPr/>
          <p:nvPr/>
        </p:nvSpPr>
        <p:spPr>
          <a:xfrm>
            <a:off x="3419640" y="558972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8"/>
          <p:cNvSpPr/>
          <p:nvPr/>
        </p:nvSpPr>
        <p:spPr>
          <a:xfrm>
            <a:off x="1116000" y="6453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диницы измер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Вт - мощность, при которой в 1 с совершается работа в 1 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11280" y="28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ват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268360" y="2924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987640" y="321300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916360" y="2492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джо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012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987640" y="3139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секу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5796000" y="299736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6732720" y="29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7596360" y="335772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596360" y="2708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251840" y="334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7164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812000" y="3357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5292720" y="28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324000" y="393372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1000000 Вт          1 Вт = 0,000001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кВт = 1000 Вт                1 Вт = 0,001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0,001 Вт               1 Вт = 1000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л.с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~ 735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5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3:03:31Z</dcterms:created>
  <dc:creator>User</dc:creator>
  <dc:description/>
  <dc:language>en-US</dc:language>
  <cp:lastModifiedBy>LEGION</cp:lastModifiedBy>
  <dcterms:modified xsi:type="dcterms:W3CDTF">2015-03-30T08:21:04Z</dcterms:modified>
  <cp:revision>42</cp:revision>
  <dc:subject/>
  <dc:title>Слайд 1</dc:title>
</cp:coreProperties>
</file>